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EF5475-8B54-4E13-9E55-7E5775765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1D47AC-43A1-461B-A2E0-2B6AFD40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Corps newsfeed of student b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google.com/reader/shared/user%2F00765628753731681854%2Flabel%2FOLP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ews on Uruguay’s completion of 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olpcnews.com/countries/uruguay/last_xo_laptop_olpc_urugua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laptop.org/go/OLPC_New_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-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laptop.org/2009/09/28/xo-1-5-create-collaborate-contribut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0.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sugarlabs.org/go/0.86/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8925-26CF-4554-9B8B-038E7369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CA3B-7666-4469-9512-A6A092207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90F9-78F2-43DE-B137-4F93B217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72B9-F30E-42AA-84EB-BFABA6168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1260-6DEA-49AE-A903-E94B201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6B4B-0CA1-4B6C-9BFF-06DFA72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CC747-90A9-41BB-941D-F8735859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020E-73B6-42BE-BA04-9B6C616A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375DA-CF14-4808-BFEB-86FDE07E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82891-C7E5-4EF6-A41F-AE311C4A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2FEF-93B7-4FB1-887B-2D30422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7F96-8480-4CFD-954A-B6E9A8E38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0FE86-6F0C-49EB-8B83-819CB5E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0F86-FAA7-426B-A5DA-03F60D7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1F5F4-4D10-4906-B458-7788697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3CDE9-41AC-4214-8FF4-6A8E63BE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A02F8-918D-4032-8922-CF6DB731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F6A0-2B02-4738-84A8-928D726EB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75B2-C12D-47DA-9F59-597DE4CEA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6839-2F66-42BD-8D64-E662A2070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1F83-8052-48D2-884E-E90E44529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456C-C454-4187-901C-B7A233DBB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6F2E-3E17-4A96-82CC-2E1EC7F4F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24EC-3568-42EE-946A-E3B8EBC90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4E2-22B0-4BE8-B1F5-2504B0D00D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0A3-5F44-4D29-B890-B779210E62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log.makezine.com/archive/2009/10/olpc_ox_controls_reprap_prints_ox_p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sets/72157622456693641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flickr.com/photos/curiouslee/sets/72157622456693641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on-disk.com/product_info.php/products_id/88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3975587531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Updated after the meeting with link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4AD5-CCA0-4590-A90E-6F769F1F5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128A-071E-4652-A687-14127B5F9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B939-29DD-453C-89D0-72418BF37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rcRect l="0" t="0" r="0" b="5555"/>
          <a:stretch/>
        </p:blipFill>
        <p:spPr>
          <a:xfrm>
            <a:off x="1424160" y="0"/>
            <a:ext cx="6295680" cy="64771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6477120"/>
            <a:ext cx="750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illiamkamkwamba.typepad.com/williamkamkwamba/2008/03/bringing-an-olp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0E39-C73E-43D0-96E9-12D25DB83A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59432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blog.makezine.com/archive/2009/10/olpc_ox_controls_reprap_prints_ox_p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7" name="reprap_olpc_viewfinder_vide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45F1-4C41-4E05-9BF7-E0DD9F27F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uguay completes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push to production of XO-1.5 lap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ar 0.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ing out with Seth and A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AD94-627A-4DEE-89B4-CA2ABAA4A4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bernoulli_win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media_lab_extensio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960" y="5562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highlights of my visit last wee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ickr.com/photos/curiouslee/sets/72157622456693641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C4ED-F1C8-4300-AEE8-4858E77B9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5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6" name="ondisk_sd_card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016320"/>
            <a:ext cx="5562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on-disk.com/product_info.php/products_id/88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4396-E00E-401C-9E7D-EAE49BC63D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olpc_ny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6019-6FE0-4CB4-B1E5-CFC4382C3D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8T03:23:39Z</dcterms:modified>
  <cp:revision>174</cp:revision>
  <dc:subject/>
  <dc:title>Mapping the Current State of Web Sites</dc:title>
</cp:coreProperties>
</file>